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DCC-6F2A-4C42-BED4-731EBDC5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AA6-76BD-4BFF-867B-E63F7F67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9CA-558F-42C4-8F8F-08898DEE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ECA-EA36-4F96-9300-A26CED0B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D8E-3801-477D-B523-F46BF400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5F7-B16C-4F6B-8528-DCAD70F4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53C-C8BD-4B98-A4C0-39D50A04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530-AE77-4FB0-9F6A-CB852998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E10-252A-41BC-A50B-C9B40FCC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847-DD15-4612-9580-21371708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D76-18BE-40EE-B34F-7938E415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FD5-EA37-41BF-93DC-578CEAE1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C99E-B53D-490C-8400-0065298DFDF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모서리가 둥근 직사각형 14"/>
          <p:cNvSpPr/>
          <p:nvPr/>
        </p:nvSpPr>
        <p:spPr>
          <a:xfrm>
            <a:off x="1012680" y="2004840"/>
            <a:ext cx="7118640" cy="2848320"/>
          </a:xfrm>
          <a:prstGeom prst="roundRect">
            <a:avLst>
              <a:gd name="adj" fmla="val 16667"/>
            </a:avLst>
          </a:prstGeom>
          <a:noFill/>
          <a:ln cap="rnd" w="76320">
            <a:solidFill>
              <a:srgbClr val="ffffff">
                <a:alpha val="52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모서리가 둥근 직사각형 2" descr=""/>
          <p:cNvPicPr/>
          <p:nvPr/>
        </p:nvPicPr>
        <p:blipFill>
          <a:blip r:embed="rId2"/>
          <a:stretch/>
        </p:blipFill>
        <p:spPr>
          <a:xfrm>
            <a:off x="762120" y="2193840"/>
            <a:ext cx="7613640" cy="274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:\[01]업무\경기사이버도서관\디자인\이미지\별.png"/>
          <p:cNvPicPr/>
          <p:nvPr/>
        </p:nvPicPr>
        <p:blipFill>
          <a:blip r:embed="rId3"/>
          <a:stretch/>
        </p:blipFill>
        <p:spPr>
          <a:xfrm>
            <a:off x="434880" y="1743120"/>
            <a:ext cx="2049480" cy="132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D:\[01]업무\경기사이버도서관\디자인\이미지\병아리.png"/>
          <p:cNvPicPr/>
          <p:nvPr/>
        </p:nvPicPr>
        <p:blipFill>
          <a:blip r:embed="rId4"/>
          <a:stretch/>
        </p:blipFill>
        <p:spPr>
          <a:xfrm flipH="1" rot="592800">
            <a:off x="6948000" y="6080040"/>
            <a:ext cx="581040" cy="55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D:\[01]업무\경기사이버도서관\디자인\이미지\병아리.png"/>
          <p:cNvPicPr/>
          <p:nvPr/>
        </p:nvPicPr>
        <p:blipFill>
          <a:blip r:embed="rId5"/>
          <a:stretch/>
        </p:blipFill>
        <p:spPr>
          <a:xfrm>
            <a:off x="7674120" y="6095880"/>
            <a:ext cx="581040" cy="54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D:\[01]업무\경기사이버도서관\디자인\이미지\병아리.png"/>
          <p:cNvPicPr/>
          <p:nvPr/>
        </p:nvPicPr>
        <p:blipFill>
          <a:blip r:embed="rId6"/>
          <a:stretch/>
        </p:blipFill>
        <p:spPr>
          <a:xfrm flipH="1" rot="21134400">
            <a:off x="8397360" y="6066000"/>
            <a:ext cx="5810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수도원 도서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양피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문제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B </a:t>
            </a: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세트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사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책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쿠텐베르크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90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대출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C.2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스피드 퀴즈 진행요령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0324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1)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모둠에서 한 사람이 설명하고 다른 사람이 정답을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맞춘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2)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단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단어를 설명하는 사람의 부담을 덜고 모둠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전체 참여를 위해서 답을 맞힌 사람이 그 다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문제를 설명하는 릴레이 형식으로 진행한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3)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제한 시간 동안 맞힌 문제의 수를 점수로 계산한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선 연결선 8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258920" y="4437000"/>
            <a:ext cx="741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-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준비물 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: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문제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,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초 시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-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제한시간과 한 조당 출제 문제는 모둠 수와 구성원 수를 기준으로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담당자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 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다시 구성해도 된다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.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게임 시작 전 정답을 미리 출력하여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문제를 준비하도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 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한다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-1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일차 책의 역사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도서관의 역사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,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자료분류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자료검색방법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청구기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익히기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, 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도서관예절</a:t>
            </a:r>
            <a:r>
              <a:rPr b="0" lang="en-US" sz="16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600" spc="-1" strike="noStrike">
                <a:solidFill>
                  <a:srgbClr val="c00000"/>
                </a:solidFill>
                <a:latin typeface="돋움"/>
                <a:ea typeface="돋움"/>
              </a:rPr>
              <a:t>이용규칙 익히기 학습 후 시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점토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문제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C </a:t>
            </a: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세트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알렉산드리아 도서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저자기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북트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죽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V.3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별치기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연체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문제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A </a:t>
            </a: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세트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문제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D </a:t>
            </a: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세트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옥스퍼드 대학도서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80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서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파피루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색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KDC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텔로도서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문제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E </a:t>
            </a: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세트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813.8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대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등록번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아시니우스 폴리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채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대출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청구기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종이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반납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쐐기문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북앤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00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직선 연결선 5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듀이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08:01:33Z</dcterms:created>
  <dc:creator>user</dc:creator>
  <dc:description/>
  <dc:language>en-US</dc:language>
  <cp:lastModifiedBy>cherry</cp:lastModifiedBy>
  <dcterms:modified xsi:type="dcterms:W3CDTF">2013-12-05T07:59:41Z</dcterms:modified>
  <cp:revision>35</cp:revision>
  <dc:subject/>
  <dc:title>스피드 퀴즈</dc:title>
</cp:coreProperties>
</file>