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ED6-694C-427D-8527-62EE1C404A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CE06-96B0-4318-ADC9-FA2D8D5C284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045A-DF9C-4CB8-BB40-1A208C82E70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54E-F2C3-46C8-8EFF-43455D46FC3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DA3-7D75-4D9E-A712-05C00F0BB51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F71-147D-46F4-90A5-36456978187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368E-EF18-4E59-84D2-DEB836C0EEE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DD9-5E07-4E3A-B8FF-E693C497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0A8-8972-450D-BAB9-E74FA13A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AE9-0F1D-4B69-BEB7-35EA4F17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E69-C062-4CF3-AD9A-E49480FB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7DA-008A-4CC5-B96A-0D626726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88C-42C0-4926-A328-9B4EB21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E36-D7C5-4EB1-A991-0A2EC47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840-37E8-41CE-97AF-7A749E1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D41-1945-4AFC-A736-696CD1BA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EA5-0B93-444C-AA93-7522B82B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9D8-520A-45C4-8FAF-2156E39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C14-DEAD-496A-A842-109A1CB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B4C0-E67B-49F1-9EB2-1E812D9595C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모서리가 둥근 직사각형 2" descr=""/>
          <p:cNvPicPr/>
          <p:nvPr/>
        </p:nvPicPr>
        <p:blipFill>
          <a:blip r:embed="rId2"/>
          <a:stretch/>
        </p:blipFill>
        <p:spPr>
          <a:xfrm>
            <a:off x="1249200" y="2200320"/>
            <a:ext cx="6645600" cy="284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네모난 모양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 관한 다양한 정보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담고 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주인에 관한 다양한 정보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담고 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잃어버리면 다시 발급 받을 수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빌릴 때 꼭 필요한 것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pic>
        <p:nvPicPr>
          <p:cNvPr id="96" name="모서리가 둥근 직사각형 5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서 꼭 갖추어야 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물건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보관하는 역할을 합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여러 가지 물건들을 운반하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바퀴가 달려 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50760" y="1844280"/>
            <a:ext cx="7653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제시되는 문장을 보면서 유추하여 자신의 모둠의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구호를 외친 후 정답을 맞힌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첫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두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세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네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마지막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을 획득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모둠별로 맞힌 정답의 점수를 계산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 진행 요령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533320" y="5084640"/>
            <a:ext cx="43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1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일차 책의 역사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도서관의 역사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자료분류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자료검색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청구기호 익히기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도서관 예절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이용규칙 익히기 학습 후 시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옮기는 수레로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‘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책수레’라고도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모서리가 둥근 직사각형 9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인류의 의사소통과 함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타났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다양한 사람들이 모이는 곳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문제를 해결하는 공간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평생교육기관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수집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정리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보존하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곳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모서리가 둥근 직사각형 9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도서관의 역사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책의 역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텔로 도서관을 채우고 있었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도서관예절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br>
              <a:rPr sz="5000"/>
            </a:b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이용규칙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 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시설</a:t>
            </a:r>
            <a:endParaRPr b="0" lang="en-US" sz="50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9" name="직선 연결선 2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갈대 가지를 이용해 쓸 수 있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나방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풀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빗면이라는 뜻을 가지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V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모양으로 만들어져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점토판에 새겨진 글자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모서리가 둥근 직사각형 5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이집트에 살아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알렉산드리아 도서관에서 살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미라의 베개로 사용되기도 하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지중해 연안의 습지에서 무리 지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자라는 식물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영어 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paper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의 어원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000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년을 살아왔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고대의 왕립도서관을 대학도서관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연결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코덱스형의 책의 형태를 보급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중세 암흑시대의 도서관이에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필경사들이 있는 도서관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기독교 교회 안에 만든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종교도서관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011240" y="2425680"/>
            <a:ext cx="7334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후한시대에 살았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궁궐의 물건 관리인이었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나무껍질로 죽을 만들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계산기를 발명하기도 했죠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종이를 발명한 사람이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의 이름을 따서 종이를 “○○지”라고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모서리가 둥근 직사각형 5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자료분류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검색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청구기호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서 지켜야 할 원칙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자료의 이용과 보관을 돕습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자료를 구분하여 정리하는 방법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숫자와 문자로 이루어집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책의 위치를 알려주는 기호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음반과 같은 또 하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정보원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분류하는 여러 가지 방법 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하나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0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까지 열 개의 수를 이용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숫자마다 다른 주제를 가지고 있습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학교도서관에서도 사용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한국에서 사용되는 십진분류법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4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다양한 글자들로 표시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형재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용도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특성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위치를 알려줍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참고도서나 시청각 자료에 사용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빌려갈 수 없는 자료를 표시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서 만날 수 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R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참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어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아처럼 표시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다루는 사람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모서리가 둥근 직사각형 9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parkteam</cp:lastModifiedBy>
  <dcterms:modified xsi:type="dcterms:W3CDTF">2013-12-11T06:58:06Z</dcterms:modified>
  <cp:revision>44</cp:revision>
  <dc:subject/>
  <dc:title>스피드 퀴즈</dc:title>
</cp:coreProperties>
</file>