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CDE6-2B86-48FF-BF67-433C8302D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서울남산체 EB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B313-0F2B-4957-8C99-8B916C62B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서울남산체 EB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126B-D369-4307-A831-785484CA6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서울남산체 EB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00FE-B984-4171-BDB9-028749009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서울남산체 EB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8F40-E40A-4738-889D-B9084E6A0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서울남산체 EB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9A98-DF8E-463F-B26A-A55183CF2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서울남산체 EB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4A06-68AD-4C69-B6A5-5DD829F22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서울남산체 E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2A8D-F9EF-418E-AA30-3258B341D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FAFC-ECFC-4E53-9279-CB5FEFB66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서울남산체 EB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46A0-6171-42BE-9D0A-D6FCE423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서울남산체 EB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2170-5143-4583-9299-E1B1D44D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서울남산체 EB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04B4-759B-4C55-8723-392B69BBE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서울남산체 EB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서울남산체 EB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서울남산체 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서울남산체 B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서울남산체 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서울남산체 B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서울남산체 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서울남산체 B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서울남산체 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서울남산체 B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서울남산체 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서울남산체 B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서울남산체 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서울남산체 B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서울남산체 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서울남산체 B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DCDD5-0D9D-47BF-B172-835DA3EEFF0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모서리가 둥근 직사각형 14"/>
          <p:cNvSpPr/>
          <p:nvPr/>
        </p:nvSpPr>
        <p:spPr>
          <a:xfrm>
            <a:off x="1012680" y="2004840"/>
            <a:ext cx="7118640" cy="2848320"/>
          </a:xfrm>
          <a:prstGeom prst="roundRect">
            <a:avLst>
              <a:gd name="adj" fmla="val 16667"/>
            </a:avLst>
          </a:prstGeom>
          <a:noFill/>
          <a:ln cap="rnd" w="76320">
            <a:solidFill>
              <a:srgbClr val="ffffff">
                <a:alpha val="52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모서리가 둥근 직사각형 2" descr=""/>
          <p:cNvPicPr/>
          <p:nvPr/>
        </p:nvPicPr>
        <p:blipFill>
          <a:blip r:embed="rId2"/>
          <a:stretch/>
        </p:blipFill>
        <p:spPr>
          <a:xfrm>
            <a:off x="1249200" y="2193840"/>
            <a:ext cx="6645600" cy="28418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D:\[01]업무\경기사이버도서관\디자인\이미지\별.png"/>
          <p:cNvPicPr/>
          <p:nvPr/>
        </p:nvPicPr>
        <p:blipFill>
          <a:blip r:embed="rId3"/>
          <a:stretch/>
        </p:blipFill>
        <p:spPr>
          <a:xfrm>
            <a:off x="434880" y="1743120"/>
            <a:ext cx="2049480" cy="1326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3" descr="D:\[01]업무\경기사이버도서관\디자인\이미지\병아리.png"/>
          <p:cNvPicPr/>
          <p:nvPr/>
        </p:nvPicPr>
        <p:blipFill>
          <a:blip r:embed="rId4"/>
          <a:stretch/>
        </p:blipFill>
        <p:spPr>
          <a:xfrm flipH="1" rot="592800">
            <a:off x="6948000" y="6080040"/>
            <a:ext cx="581040" cy="550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3" descr="D:\[01]업무\경기사이버도서관\디자인\이미지\병아리.png"/>
          <p:cNvPicPr/>
          <p:nvPr/>
        </p:nvPicPr>
        <p:blipFill>
          <a:blip r:embed="rId5"/>
          <a:stretch/>
        </p:blipFill>
        <p:spPr>
          <a:xfrm>
            <a:off x="7674120" y="6095880"/>
            <a:ext cx="581040" cy="549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3" descr="D:\[01]업무\경기사이버도서관\디자인\이미지\병아리.png"/>
          <p:cNvPicPr/>
          <p:nvPr/>
        </p:nvPicPr>
        <p:blipFill>
          <a:blip r:embed="rId6"/>
          <a:stretch/>
        </p:blipFill>
        <p:spPr>
          <a:xfrm flipH="1" rot="21134400">
            <a:off x="8397360" y="6066000"/>
            <a:ext cx="581040" cy="5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직선 연결선 6"/>
          <p:cNvSpPr/>
          <p:nvPr/>
        </p:nvSpPr>
        <p:spPr>
          <a:xfrm>
            <a:off x="1079640" y="242100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76320" y="2636640"/>
            <a:ext cx="7772400" cy="30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낱말의 의미</a:t>
            </a:r>
            <a:r>
              <a:rPr b="0" lang="en-US" sz="32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쓰임새</a:t>
            </a:r>
            <a:r>
              <a:rPr b="0" lang="en-US" sz="32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어원 등을 설명한 </a:t>
            </a:r>
            <a:br>
              <a:rPr sz="3200"/>
            </a:b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인쇄자료입니다</a:t>
            </a:r>
            <a:r>
              <a:rPr b="0" lang="en-US" sz="32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보통 한권으로 되어 </a:t>
            </a:r>
            <a:br>
              <a:rPr sz="3200"/>
            </a:b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있고 두껍습니다</a:t>
            </a:r>
            <a:r>
              <a:rPr b="0" lang="en-US" sz="32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국어사전</a:t>
            </a:r>
            <a:r>
              <a:rPr b="0" lang="en-US" sz="32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영어사전</a:t>
            </a:r>
            <a:r>
              <a:rPr b="0" lang="en-US" sz="3200" spc="-1" strike="noStrike">
                <a:solidFill>
                  <a:srgbClr val="000000"/>
                </a:solidFill>
                <a:latin typeface="돋움"/>
                <a:ea typeface="돋움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미술 용어사전 등이 있습니다</a:t>
            </a:r>
            <a:r>
              <a:rPr b="0" lang="en-US" sz="32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서울남산체 EB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1258920" y="692280"/>
            <a:ext cx="64008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c00000"/>
                </a:solidFill>
                <a:latin typeface="돋움"/>
                <a:ea typeface="돋움"/>
              </a:rPr>
              <a:t>ㅅㅈ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직선 연결선 6"/>
          <p:cNvSpPr/>
          <p:nvPr/>
        </p:nvSpPr>
        <p:spPr>
          <a:xfrm>
            <a:off x="1079640" y="242100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258920" y="692280"/>
            <a:ext cx="640080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c00000"/>
                </a:solidFill>
                <a:latin typeface="돋움"/>
                <a:ea typeface="돋움"/>
              </a:rPr>
              <a:t>사전</a:t>
            </a:r>
            <a:endParaRPr b="0" lang="en-US" sz="96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976320" y="2636640"/>
            <a:ext cx="7772400" cy="30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낱말의 의미</a:t>
            </a:r>
            <a:r>
              <a:rPr b="0" lang="en-US" sz="32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쓰임새</a:t>
            </a:r>
            <a:r>
              <a:rPr b="0" lang="en-US" sz="32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어원 등을 설명한 </a:t>
            </a:r>
            <a:br>
              <a:rPr sz="3200"/>
            </a:b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인쇄자료입니다</a:t>
            </a:r>
            <a:r>
              <a:rPr b="0" lang="en-US" sz="32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보통 한권으로 되어 </a:t>
            </a:r>
            <a:br>
              <a:rPr sz="3200"/>
            </a:b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있고 두껍습니다</a:t>
            </a:r>
            <a:r>
              <a:rPr b="0" lang="en-US" sz="32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국어사전</a:t>
            </a:r>
            <a:r>
              <a:rPr b="0" lang="en-US" sz="32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영어사전</a:t>
            </a:r>
            <a:r>
              <a:rPr b="0" lang="en-US" sz="3200" spc="-1" strike="noStrike">
                <a:solidFill>
                  <a:srgbClr val="000000"/>
                </a:solidFill>
                <a:latin typeface="돋움"/>
                <a:ea typeface="돋움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미술 용어사전 등이 있습니다</a:t>
            </a:r>
            <a:r>
              <a:rPr b="0" lang="en-US" sz="32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서울남산체 E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직선 연결선 6"/>
          <p:cNvSpPr/>
          <p:nvPr/>
        </p:nvSpPr>
        <p:spPr>
          <a:xfrm>
            <a:off x="1079640" y="242100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76320" y="2636640"/>
            <a:ext cx="7772400" cy="30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정치</a:t>
            </a:r>
            <a:r>
              <a:rPr b="0" lang="en-US" sz="32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경제</a:t>
            </a:r>
            <a:r>
              <a:rPr b="0" lang="en-US" sz="32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사회</a:t>
            </a:r>
            <a:r>
              <a:rPr b="0" lang="en-US" sz="32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문화</a:t>
            </a:r>
            <a:r>
              <a:rPr b="0" lang="en-US" sz="32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예술 과학 등 </a:t>
            </a:r>
            <a:br>
              <a:rPr sz="3200"/>
            </a:b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여러 분야에 걸친 지식을 상세히 다루고 있는 인쇄자료입니다</a:t>
            </a:r>
            <a:r>
              <a:rPr b="0" lang="en-US" sz="32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서울남산체 EB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1258920" y="692280"/>
            <a:ext cx="64008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c00000"/>
                </a:solidFill>
                <a:latin typeface="돋움"/>
                <a:ea typeface="돋움"/>
              </a:rPr>
              <a:t>ㅂㄱㅅㅈ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직선 연결선 6"/>
          <p:cNvSpPr/>
          <p:nvPr/>
        </p:nvSpPr>
        <p:spPr>
          <a:xfrm>
            <a:off x="1079640" y="242100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258920" y="692280"/>
            <a:ext cx="640080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c00000"/>
                </a:solidFill>
                <a:latin typeface="돋움"/>
                <a:ea typeface="돋움"/>
              </a:rPr>
              <a:t>백과사전</a:t>
            </a:r>
            <a:endParaRPr b="0" lang="en-US" sz="96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976320" y="2636640"/>
            <a:ext cx="7772400" cy="30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정치</a:t>
            </a:r>
            <a:r>
              <a:rPr b="0" lang="en-US" sz="32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경제</a:t>
            </a:r>
            <a:r>
              <a:rPr b="0" lang="en-US" sz="32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사회</a:t>
            </a:r>
            <a:r>
              <a:rPr b="0" lang="en-US" sz="32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문화</a:t>
            </a:r>
            <a:r>
              <a:rPr b="0" lang="en-US" sz="32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예술 과학 등 </a:t>
            </a:r>
            <a:br>
              <a:rPr sz="3200"/>
            </a:b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여러 분야에 걸친 지식을 상세히 다루고 있는 인쇄자료입니다</a:t>
            </a:r>
            <a:r>
              <a:rPr b="0" lang="en-US" sz="32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서울남산체 E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직선 연결선 6"/>
          <p:cNvSpPr/>
          <p:nvPr/>
        </p:nvSpPr>
        <p:spPr>
          <a:xfrm>
            <a:off x="1079640" y="242100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6320" y="2636640"/>
            <a:ext cx="7772400" cy="30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날마다 새로운 소식을 신속하게 전하여 주는 인쇄자료입니다</a:t>
            </a:r>
            <a:r>
              <a:rPr b="0" lang="en-US" sz="32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서울남산체 EB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1258920" y="692280"/>
            <a:ext cx="64008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c00000"/>
                </a:solidFill>
                <a:latin typeface="돋움"/>
                <a:ea typeface="돋움"/>
              </a:rPr>
              <a:t>ㅅㅁ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직선 연결선 6"/>
          <p:cNvSpPr/>
          <p:nvPr/>
        </p:nvSpPr>
        <p:spPr>
          <a:xfrm>
            <a:off x="1079640" y="242100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258920" y="692280"/>
            <a:ext cx="640080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c00000"/>
                </a:solidFill>
                <a:latin typeface="돋움"/>
                <a:ea typeface="돋움"/>
              </a:rPr>
              <a:t>신문</a:t>
            </a:r>
            <a:endParaRPr b="0" lang="en-US" sz="96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976320" y="2636640"/>
            <a:ext cx="7772400" cy="30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날마다 새로운 소식을 신속하게 전하여 주는 인쇄자료입니다</a:t>
            </a:r>
            <a:r>
              <a:rPr b="0" lang="en-US" sz="32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서울남산체 E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직선 연결선 6"/>
          <p:cNvSpPr/>
          <p:nvPr/>
        </p:nvSpPr>
        <p:spPr>
          <a:xfrm>
            <a:off x="1079640" y="242100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76320" y="2636640"/>
            <a:ext cx="7772400" cy="30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특정 분야의 상세한 정보를 정기적으로 </a:t>
            </a:r>
            <a:br>
              <a:rPr sz="3200"/>
            </a:b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전달하는 인쇄자료입니다</a:t>
            </a:r>
            <a:r>
              <a:rPr b="0" lang="en-US" sz="32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서울남산체 EB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1258920" y="692280"/>
            <a:ext cx="64008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c00000"/>
                </a:solidFill>
                <a:latin typeface="돋움"/>
                <a:ea typeface="돋움"/>
              </a:rPr>
              <a:t>ㅈㅈ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직선 연결선 6"/>
          <p:cNvSpPr/>
          <p:nvPr/>
        </p:nvSpPr>
        <p:spPr>
          <a:xfrm>
            <a:off x="1079640" y="242100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258920" y="692280"/>
            <a:ext cx="640080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c00000"/>
                </a:solidFill>
                <a:latin typeface="돋움"/>
                <a:ea typeface="돋움"/>
              </a:rPr>
              <a:t>잡지</a:t>
            </a:r>
            <a:endParaRPr b="0" lang="en-US" sz="96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976320" y="2636640"/>
            <a:ext cx="7772400" cy="30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특정 분야의 상세한 정보를 정기적으로 </a:t>
            </a:r>
            <a:br>
              <a:rPr sz="3200"/>
            </a:b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전달하는 인쇄자료입니다</a:t>
            </a:r>
            <a:r>
              <a:rPr b="0" lang="en-US" sz="32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서울남산체 E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직선 연결선 6"/>
          <p:cNvSpPr/>
          <p:nvPr/>
        </p:nvSpPr>
        <p:spPr>
          <a:xfrm>
            <a:off x="1079640" y="242100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76320" y="2636640"/>
            <a:ext cx="7772400" cy="30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사람의 눈으로 쉽게 관찰하기 힘든 것을</a:t>
            </a:r>
            <a:br>
              <a:rPr sz="3000"/>
            </a:b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 볼 수 있데 도와줍니다</a:t>
            </a: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감성적이고 </a:t>
            </a:r>
            <a:br>
              <a:rPr sz="3000"/>
            </a:b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사실적인 정보를 이용하는데 도움이 되는 </a:t>
            </a:r>
            <a:br>
              <a:rPr sz="3000"/>
            </a:b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자료입니다</a:t>
            </a: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보고 있는 장면이 끝나면 </a:t>
            </a:r>
            <a:br>
              <a:rPr sz="3000"/>
            </a:b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영상이 사라져 버립니다</a:t>
            </a: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br>
              <a:rPr sz="3000"/>
            </a:b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직접적인 장면을 보여주기 때문에 자유로운 상상을 방해합니다</a:t>
            </a: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서울남산체 EB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1258920" y="692280"/>
            <a:ext cx="64008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c00000"/>
                </a:solidFill>
                <a:latin typeface="돋움"/>
                <a:ea typeface="돋움"/>
              </a:rPr>
              <a:t>ㅇㅅㅈㄹ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직선 연결선 6"/>
          <p:cNvSpPr/>
          <p:nvPr/>
        </p:nvSpPr>
        <p:spPr>
          <a:xfrm>
            <a:off x="1079640" y="242100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258920" y="692280"/>
            <a:ext cx="640080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c00000"/>
                </a:solidFill>
                <a:latin typeface="돋움"/>
                <a:ea typeface="돋움"/>
              </a:rPr>
              <a:t>영상자료</a:t>
            </a:r>
            <a:endParaRPr b="0" lang="en-US" sz="96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976320" y="2636640"/>
            <a:ext cx="7772400" cy="30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사람의 눈으로 쉽게 관찰하기 힘든 것을</a:t>
            </a:r>
            <a:br>
              <a:rPr sz="3000"/>
            </a:b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 볼 수 있데 도와줍니다</a:t>
            </a: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감성적이고 </a:t>
            </a:r>
            <a:br>
              <a:rPr sz="3000"/>
            </a:b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사실적인 정보를 이용하는데 도움이 되는 </a:t>
            </a:r>
            <a:br>
              <a:rPr sz="3000"/>
            </a:b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자료입니다</a:t>
            </a: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보고 있는 장면이 끝나면 </a:t>
            </a:r>
            <a:br>
              <a:rPr sz="3000"/>
            </a:b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영상이 사라져 버립니다</a:t>
            </a: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br>
              <a:rPr sz="3000"/>
            </a:b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직접적인 장면을 보여주기 때문에 자유로운 상상을 방해합니다</a:t>
            </a: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서울남산체 E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선 연결선 6"/>
          <p:cNvSpPr/>
          <p:nvPr/>
        </p:nvSpPr>
        <p:spPr>
          <a:xfrm>
            <a:off x="1079640" y="242100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6320" y="2636640"/>
            <a:ext cx="7772400" cy="30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정보를 담고 있는 그릇입니다</a:t>
            </a:r>
            <a:r>
              <a:rPr b="0" lang="en-US" sz="32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서울남산체 EB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1258920" y="692280"/>
            <a:ext cx="64008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c00000"/>
                </a:solidFill>
                <a:latin typeface="돋움"/>
                <a:ea typeface="돋움"/>
              </a:rPr>
              <a:t>ㅈㅂㅇ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직선 연결선 6"/>
          <p:cNvSpPr/>
          <p:nvPr/>
        </p:nvSpPr>
        <p:spPr>
          <a:xfrm>
            <a:off x="1079640" y="242100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6320" y="2636640"/>
            <a:ext cx="7772400" cy="30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짧은 시간에 많은 양의 정보를</a:t>
            </a:r>
            <a:br>
              <a:rPr sz="3200"/>
            </a:b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전달 할 수 있습니다</a:t>
            </a:r>
            <a:r>
              <a:rPr b="0" lang="en-US" sz="32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내용의 정확성이나</a:t>
            </a:r>
            <a:br>
              <a:rPr sz="3200"/>
            </a:b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 신뢰성이 떨어지는 경우가 많습니다</a:t>
            </a:r>
            <a:r>
              <a:rPr b="0" lang="en-US" sz="32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br>
              <a:rPr sz="3200"/>
            </a:b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여러 곳에 분산하여 저장할 수 있습니다</a:t>
            </a:r>
            <a:r>
              <a:rPr b="0" lang="en-US" sz="32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br>
              <a:rPr sz="3200"/>
            </a:b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컴퓨터나 전용 단말기가 필요합니다</a:t>
            </a:r>
            <a:r>
              <a:rPr b="0" lang="en-US" sz="32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서울남산체 EB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1258920" y="692280"/>
            <a:ext cx="64008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c00000"/>
                </a:solidFill>
                <a:latin typeface="돋움"/>
                <a:ea typeface="돋움"/>
              </a:rPr>
              <a:t>ㅈㅈㅈㄹ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직선 연결선 6"/>
          <p:cNvSpPr/>
          <p:nvPr/>
        </p:nvSpPr>
        <p:spPr>
          <a:xfrm>
            <a:off x="1079640" y="242100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258920" y="692280"/>
            <a:ext cx="640080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c00000"/>
                </a:solidFill>
                <a:latin typeface="돋움"/>
                <a:ea typeface="돋움"/>
              </a:rPr>
              <a:t>전자자료</a:t>
            </a:r>
            <a:endParaRPr b="0" lang="en-US" sz="96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976320" y="2636640"/>
            <a:ext cx="7772400" cy="30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짧은 시간에 많은 양의 정보를</a:t>
            </a:r>
            <a:br>
              <a:rPr sz="3200"/>
            </a:b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전달 할 수 있습니다</a:t>
            </a:r>
            <a:r>
              <a:rPr b="0" lang="en-US" sz="32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내용의 정확성이나</a:t>
            </a:r>
            <a:br>
              <a:rPr sz="3200"/>
            </a:b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 신뢰성이 떨어지는 경우가 많습니다</a:t>
            </a:r>
            <a:r>
              <a:rPr b="0" lang="en-US" sz="32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br>
              <a:rPr sz="3200"/>
            </a:b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여러 곳에 분산하여 저장할 수 있습니다</a:t>
            </a:r>
            <a:r>
              <a:rPr b="0" lang="en-US" sz="32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br>
              <a:rPr sz="3200"/>
            </a:b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컴퓨터나 전용 단말기가 필요합니다</a:t>
            </a:r>
            <a:r>
              <a:rPr b="0" lang="en-US" sz="32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서울남산체 E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직선 연결선 6"/>
          <p:cNvSpPr/>
          <p:nvPr/>
        </p:nvSpPr>
        <p:spPr>
          <a:xfrm>
            <a:off x="1079640" y="242100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258920" y="692280"/>
            <a:ext cx="640080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c00000"/>
                </a:solidFill>
                <a:latin typeface="돋움"/>
                <a:ea typeface="돋움"/>
              </a:rPr>
              <a:t>정보원</a:t>
            </a:r>
            <a:endParaRPr b="0" lang="en-US" sz="96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976320" y="2636640"/>
            <a:ext cx="7772400" cy="30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정보를 담고 있는 그릇입니다</a:t>
            </a:r>
            <a:r>
              <a:rPr b="0" lang="en-US" sz="32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서울남산체 E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직선 연결선 6"/>
          <p:cNvSpPr/>
          <p:nvPr/>
        </p:nvSpPr>
        <p:spPr>
          <a:xfrm>
            <a:off x="1079640" y="242100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76320" y="2636640"/>
            <a:ext cx="7772400" cy="30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사진과 그림을 중심으로 어떤 주제를 자세히 설명하고 있는 인쇄자료입니다</a:t>
            </a:r>
            <a:r>
              <a:rPr b="0" lang="en-US" sz="32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서울남산체 EB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1258920" y="692280"/>
            <a:ext cx="64008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c00000"/>
                </a:solidFill>
                <a:latin typeface="돋움"/>
                <a:ea typeface="돋움"/>
              </a:rPr>
              <a:t>ㄷㄱ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직선 연결선 6"/>
          <p:cNvSpPr/>
          <p:nvPr/>
        </p:nvSpPr>
        <p:spPr>
          <a:xfrm>
            <a:off x="1079640" y="242100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258920" y="692280"/>
            <a:ext cx="640080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c00000"/>
                </a:solidFill>
                <a:latin typeface="돋움"/>
                <a:ea typeface="돋움"/>
              </a:rPr>
              <a:t>도감</a:t>
            </a:r>
            <a:endParaRPr b="0" lang="en-US" sz="96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976320" y="2636640"/>
            <a:ext cx="7772400" cy="30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사진과 그림을 중심으로 어떤 주제를 자세히 설명하고 있는 인쇄자료입니다</a:t>
            </a:r>
            <a:r>
              <a:rPr b="0" lang="en-US" sz="32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서울남산체 E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선 연결선 6"/>
          <p:cNvSpPr/>
          <p:nvPr/>
        </p:nvSpPr>
        <p:spPr>
          <a:xfrm>
            <a:off x="1079640" y="242100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76320" y="2636640"/>
            <a:ext cx="7772400" cy="30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책의 맨 뒤에 실린 내용입니다</a:t>
            </a:r>
            <a:r>
              <a:rPr b="0" lang="en-US" sz="32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br>
              <a:rPr sz="3200"/>
            </a:b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중요한 낱말이 가나다순으로 배열되어 </a:t>
            </a:r>
            <a:br>
              <a:rPr sz="3200"/>
            </a:b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있고 페이지가 적혀있습니다</a:t>
            </a:r>
            <a:r>
              <a:rPr b="0" lang="en-US" sz="32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br>
              <a:rPr sz="3200"/>
            </a:b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도감에 주로 있습니다</a:t>
            </a:r>
            <a:r>
              <a:rPr b="0" lang="en-US" sz="32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이것을 이용하면 원하는 낱말을 빠르게</a:t>
            </a:r>
            <a:br>
              <a:rPr sz="3200"/>
            </a:b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 찾을 수 있습니다</a:t>
            </a:r>
            <a:r>
              <a:rPr b="0" lang="en-US" sz="32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br>
              <a:rPr sz="3200"/>
            </a:b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색인이라고도 합니다</a:t>
            </a:r>
            <a:r>
              <a:rPr b="0" lang="en-US" sz="32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서울남산체 EB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1258920" y="692280"/>
            <a:ext cx="64008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c00000"/>
                </a:solidFill>
                <a:latin typeface="돋움"/>
                <a:ea typeface="돋움"/>
              </a:rPr>
              <a:t>ㅊㅇㅂㄱ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직선 연결선 6"/>
          <p:cNvSpPr/>
          <p:nvPr/>
        </p:nvSpPr>
        <p:spPr>
          <a:xfrm>
            <a:off x="1079640" y="242100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258920" y="692280"/>
            <a:ext cx="640080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c00000"/>
                </a:solidFill>
                <a:latin typeface="돋움"/>
                <a:ea typeface="돋움"/>
              </a:rPr>
              <a:t>찾아보기</a:t>
            </a:r>
            <a:endParaRPr b="0" lang="en-US" sz="96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976320" y="2636640"/>
            <a:ext cx="7772400" cy="30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책의 맨 뒤에 실린 내용입니다</a:t>
            </a:r>
            <a:r>
              <a:rPr b="0" lang="en-US" sz="32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br>
              <a:rPr sz="3200"/>
            </a:b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중요한 낱말이 가나다순으로 배열되어 </a:t>
            </a:r>
            <a:br>
              <a:rPr sz="3200"/>
            </a:b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있고 페이지가 적혀있습니다</a:t>
            </a:r>
            <a:r>
              <a:rPr b="0" lang="en-US" sz="32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br>
              <a:rPr sz="3200"/>
            </a:b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도감에 주로 있습니다</a:t>
            </a:r>
            <a:r>
              <a:rPr b="0" lang="en-US" sz="32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이것을 이용하면 원하는 낱말을 빠르게</a:t>
            </a:r>
            <a:br>
              <a:rPr sz="3200"/>
            </a:b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 찾을 수 있습니다</a:t>
            </a:r>
            <a:r>
              <a:rPr b="0" lang="en-US" sz="32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br>
              <a:rPr sz="3200"/>
            </a:b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색인이라고도 합니다</a:t>
            </a:r>
            <a:r>
              <a:rPr b="0" lang="en-US" sz="32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서울남산체 E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직선 연결선 6"/>
          <p:cNvSpPr/>
          <p:nvPr/>
        </p:nvSpPr>
        <p:spPr>
          <a:xfrm>
            <a:off x="1079640" y="242100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6320" y="2636640"/>
            <a:ext cx="7772400" cy="30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책의 앞에 실린 내용입니다</a:t>
            </a:r>
            <a:r>
              <a:rPr b="0" lang="en-US" sz="32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br>
              <a:rPr sz="3200"/>
            </a:b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책의 내용을 페이지 순으로 </a:t>
            </a:r>
            <a:br>
              <a:rPr sz="3200"/>
            </a:b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정리하였습니다</a:t>
            </a:r>
            <a:r>
              <a:rPr b="0" lang="en-US" sz="32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br>
              <a:rPr sz="3200"/>
            </a:b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이것을 보면 책의 내용을 대강 알 수 </a:t>
            </a:r>
            <a:br>
              <a:rPr sz="3200"/>
            </a:b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있습니다</a:t>
            </a:r>
            <a:r>
              <a:rPr b="0" lang="en-US" sz="32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목차라고도 합니다</a:t>
            </a:r>
            <a:r>
              <a:rPr b="0" lang="en-US" sz="32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서울남산체 EB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58920" y="692280"/>
            <a:ext cx="64008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c00000"/>
                </a:solidFill>
                <a:latin typeface="돋움"/>
                <a:ea typeface="돋움"/>
              </a:rPr>
              <a:t>ㅊㄹ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직선 연결선 6"/>
          <p:cNvSpPr/>
          <p:nvPr/>
        </p:nvSpPr>
        <p:spPr>
          <a:xfrm>
            <a:off x="1079640" y="242100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258920" y="692280"/>
            <a:ext cx="640080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600" spc="-1" strike="noStrike">
                <a:solidFill>
                  <a:srgbClr val="c00000"/>
                </a:solidFill>
                <a:latin typeface="돋움"/>
                <a:ea typeface="돋움"/>
              </a:rPr>
              <a:t>차례</a:t>
            </a:r>
            <a:endParaRPr b="0" lang="en-US" sz="96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976320" y="2636640"/>
            <a:ext cx="7772400" cy="30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책의 앞에 실린 내용입니다</a:t>
            </a:r>
            <a:r>
              <a:rPr b="0" lang="en-US" sz="32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br>
              <a:rPr sz="3200"/>
            </a:b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책의 내용을 페이지 순으로 </a:t>
            </a:r>
            <a:br>
              <a:rPr sz="3200"/>
            </a:b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정리하였습니다</a:t>
            </a:r>
            <a:r>
              <a:rPr b="0" lang="en-US" sz="32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br>
              <a:rPr sz="3200"/>
            </a:b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이것을 보면 책의 내용을 대강 알 수 </a:t>
            </a:r>
            <a:br>
              <a:rPr sz="3200"/>
            </a:b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있습니다</a:t>
            </a:r>
            <a:r>
              <a:rPr b="0" lang="en-US" sz="32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목차라고도 합니다</a:t>
            </a:r>
            <a:r>
              <a:rPr b="0" lang="en-US" sz="32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서울남산체 E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17T08:01:33Z</dcterms:created>
  <dc:creator>user</dc:creator>
  <dc:description/>
  <dc:language>en-US</dc:language>
  <cp:lastModifiedBy>cherry</cp:lastModifiedBy>
  <dcterms:modified xsi:type="dcterms:W3CDTF">2013-12-04T07:34:44Z</dcterms:modified>
  <cp:revision>40</cp:revision>
  <dc:subject/>
  <dc:title>스피드 퀴즈</dc:title>
</cp:coreProperties>
</file>