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36B-B5A8-4B64-AF6B-B73B93D1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369-8538-4DFF-83B3-08BB3470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358-6ABE-4D60-A354-FCFC7BD2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9D7-52B7-4B43-9553-CCEB669E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240-8AFE-4CBF-A78E-C8653D7C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731-EC41-425D-B6A9-08E6AAD9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E8E-18D6-4322-B7C6-920CE6C1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D56-B121-4634-B1AD-29DA66AA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1853-B36F-4DE9-B451-C539ABA2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796-079E-490F-8DB1-A1DC8724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91D-5B3A-47A0-A846-5662CAA5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A80-CB18-48F5-BC3F-A5ABE422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서울남산체 E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서울남산체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서울남산체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9330-6BE4-42B2-A3D6-61022C62313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모서리가 둥근 직사각형 14"/>
          <p:cNvSpPr/>
          <p:nvPr/>
        </p:nvSpPr>
        <p:spPr>
          <a:xfrm>
            <a:off x="1012680" y="2004840"/>
            <a:ext cx="7118640" cy="2848320"/>
          </a:xfrm>
          <a:prstGeom prst="roundRect">
            <a:avLst>
              <a:gd name="adj" fmla="val 16667"/>
            </a:avLst>
          </a:prstGeom>
          <a:noFill/>
          <a:ln cap="rnd" w="76320">
            <a:solidFill>
              <a:srgbClr val="ffffff">
                <a:alpha val="52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모서리가 둥근 직사각형 2" descr=""/>
          <p:cNvPicPr/>
          <p:nvPr/>
        </p:nvPicPr>
        <p:blipFill>
          <a:blip r:embed="rId2"/>
          <a:stretch/>
        </p:blipFill>
        <p:spPr>
          <a:xfrm>
            <a:off x="1249200" y="2193840"/>
            <a:ext cx="6645600" cy="2841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:\[01]업무\경기사이버도서관\디자인\이미지\별.png"/>
          <p:cNvPicPr/>
          <p:nvPr/>
        </p:nvPicPr>
        <p:blipFill>
          <a:blip r:embed="rId3"/>
          <a:stretch/>
        </p:blipFill>
        <p:spPr>
          <a:xfrm>
            <a:off x="434880" y="1743120"/>
            <a:ext cx="2049480" cy="132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D:\[01]업무\경기사이버도서관\디자인\이미지\병아리.png"/>
          <p:cNvPicPr/>
          <p:nvPr/>
        </p:nvPicPr>
        <p:blipFill>
          <a:blip r:embed="rId4"/>
          <a:stretch/>
        </p:blipFill>
        <p:spPr>
          <a:xfrm flipH="1" rot="592800">
            <a:off x="6948000" y="6080040"/>
            <a:ext cx="581040" cy="550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D:\[01]업무\경기사이버도서관\디자인\이미지\병아리.png"/>
          <p:cNvPicPr/>
          <p:nvPr/>
        </p:nvPicPr>
        <p:blipFill>
          <a:blip r:embed="rId5"/>
          <a:stretch/>
        </p:blipFill>
        <p:spPr>
          <a:xfrm>
            <a:off x="7674120" y="6095880"/>
            <a:ext cx="581040" cy="549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D:\[01]업무\경기사이버도서관\디자인\이미지\병아리.png"/>
          <p:cNvPicPr/>
          <p:nvPr/>
        </p:nvPicPr>
        <p:blipFill>
          <a:blip r:embed="rId6"/>
          <a:stretch/>
        </p:blipFill>
        <p:spPr>
          <a:xfrm flipH="1" rot="21134400">
            <a:off x="8397360" y="6066000"/>
            <a:ext cx="5810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낱말의 의미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쓰임새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어원 등을 설명한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보통 한권으로 되어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있고 두껍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국어사전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영어사전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미술 용어사전 등이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ㅅㅈ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사전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낱말의 의미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쓰임새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어원 등을 설명한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보통 한권으로 되어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있고 두껍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국어사전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영어사전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미술 용어사전 등이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정치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경제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사회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문화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예술 과학 등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여러 분야에 걸친 지식을 상세히 다루고 있는 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ㅂㄱㅅㅈ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백과사전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정치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경제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사회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문화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예술 과학 등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여러 분야에 걸친 지식을 상세히 다루고 있는 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날마다 새로운 소식을 신속하게 전하여 주는 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ㅅㅁ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신문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날마다 새로운 소식을 신속하게 전하여 주는 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특정 분야의 상세한 정보를 정기적으로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전달하는 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ㅈㅈ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잡지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특정 분야의 상세한 정보를 정기적으로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전달하는 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사람의 눈으로 쉽게 관찰하기 힘든 것을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볼 수 있데 도와줍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감성적이고 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사실적인 정보를 이용하는데 도움이 되는 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자료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보고 있는 장면이 끝나면 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영상이 사라져 버립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직접적인 장면을 보여주기 때문에 자유로운 상상을 방해합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ㅇㅅㅈㄹ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영상자료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사람의 눈으로 쉽게 관찰하기 힘든 것을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볼 수 있데 도와줍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감성적이고 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사실적인 정보를 이용하는데 도움이 되는 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자료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보고 있는 장면이 끝나면 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영상이 사라져 버립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직접적인 장면을 보여주기 때문에 자유로운 상상을 방해합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정보를 담고 있는 그릇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ㅈㅂㅇ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짧은 시간에 많은 양의 정보를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전달 할 수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내용의 정확성이나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 신뢰성이 떨어지는 경우가 많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여러 곳에 분산하여 저장할 수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컴퓨터나 전용 단말기가 필요합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ㅈㅈㅈㄹ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전자자료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짧은 시간에 많은 양의 정보를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전달 할 수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내용의 정확성이나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 신뢰성이 떨어지는 경우가 많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여러 곳에 분산하여 저장할 수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컴퓨터나 전용 단말기가 필요합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정보원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정보를 담고 있는 그릇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사진과 그림을 중심으로 어떤 주제를 자세히 설명하고 있는 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ㄷㄱ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도감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사진과 그림을 중심으로 어떤 주제를 자세히 설명하고 있는 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책의 맨 뒤에 실린 내용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중요한 낱말이 가나다순으로 배열되어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있고 페이지가 적혀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도감에 주로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이것을 이용하면 원하는 낱말을 빠르게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 찾을 수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색인이라고도 합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ㅊㅇㅂㄱ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찾아보기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책의 맨 뒤에 실린 내용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중요한 낱말이 가나다순으로 배열되어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있고 페이지가 적혀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도감에 주로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이것을 이용하면 원하는 낱말을 빠르게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 찾을 수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색인이라고도 합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책의 앞에 실린 내용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책의 내용을 페이지 순으로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정리하였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이것을 보면 책의 내용을 대강 알 수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목차라고도 합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ㅊㄹ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차례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책의 앞에 실린 내용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책의 내용을 페이지 순으로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정리하였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이것을 보면 책의 내용을 대강 알 수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목차라고도 합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7T08:01:33Z</dcterms:created>
  <dc:creator>user</dc:creator>
  <dc:description/>
  <dc:language>en-US</dc:language>
  <cp:lastModifiedBy>cherry</cp:lastModifiedBy>
  <dcterms:modified xsi:type="dcterms:W3CDTF">2013-12-04T07:34:44Z</dcterms:modified>
  <cp:revision>40</cp:revision>
  <dc:subject/>
  <dc:title>스피드 퀴즈</dc:title>
</cp:coreProperties>
</file>