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2F-C785-4471-B23E-5031CCD4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420-F7D4-4E0C-8448-217B464A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096-3676-4DCA-9F9D-A1F57E03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6B6-C208-405B-BEE3-7688FC4C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2D6-8647-49D8-A9D7-5B31A077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94B-9C9C-4BA3-8111-3F75C47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D3D-74E2-4591-A3F9-C59DB18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7FD-0A7C-4960-BD02-1829ABC2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5E8-B427-4B8C-8ECC-D7BA5513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1BB-E68C-4D8E-8B09-656DEE6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8F0-DDDC-4995-8C8F-3ECB332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DA8-8E3B-4A9F-A727-8DC0FF69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1D9F-7D3E-43AA-A190-7B5B5CDAF5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모서리가 둥근 직사각형 2" descr=""/>
          <p:cNvPicPr/>
          <p:nvPr/>
        </p:nvPicPr>
        <p:blipFill>
          <a:blip r:embed="rId2"/>
          <a:stretch/>
        </p:blipFill>
        <p:spPr>
          <a:xfrm>
            <a:off x="762120" y="2193840"/>
            <a:ext cx="7613640" cy="274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수도원 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양피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B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사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책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쿠텐베르크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9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C.2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피드 퀴즈 진행요령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0324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모둠에서 한 사람이 설명하고 다른 사람이 정답을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맞춘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단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단어를 설명하는 사람의 부담을 덜고 모둠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전체 참여를 위해서 답을 맞힌 사람이 그 다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문제를 설명하는 릴레이 형식으로 진행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제한 시간 동안 맞힌 문제의 수를 점수로 계산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선 연결선 8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58920" y="4437000"/>
            <a:ext cx="741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준비물 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: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문제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초 시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제한시간과 한 조당 출제 문제는 모둠 수와 구성원 수를 기준으로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담당자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다시 구성해도 된다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.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게임 시작 전 정답을 미리 출력하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문제를 준비하도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한다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1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일차 책의 역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도서관의 역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자료분류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자료검색방법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청구기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익히기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도서관예절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이용규칙 익히기 학습 후 시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점토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C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알렉산드리아 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저자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북트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죽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V.3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별치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연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A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D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옥스퍼드 대학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8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서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파피루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색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KD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텔로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E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813.8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등록번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아시니우스 폴리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채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청구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종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반납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쐐기문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북앤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듀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5T07:59:41Z</dcterms:modified>
  <cp:revision>35</cp:revision>
  <dc:subject/>
  <dc:title>스피드 퀴즈</dc:title>
</cp:coreProperties>
</file>