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BA26-B471-42D4-91F3-BD70F2923D5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5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112A-FEA2-4E12-AB97-547C25F68AC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B21C-41EF-421F-BB61-897C6230CD5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417A-DA24-4C7B-8E18-337545F1FF8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6071-A469-49E4-88D6-4C76B20ECCC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5F47-F7B2-44BA-A1FA-BB1CDB79EB9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1D55-065D-4043-8F04-E90C4ACDBFE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25B-5D59-48E7-B5F0-284EE458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6F5-4C39-4014-BCCE-F6606CD9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119-EA6C-46E9-AEF0-A3F4123D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209-F5F0-4650-A5C1-88B3E8B7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EFA-F7D7-40CE-B8AD-27812978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070-3831-43F9-89D3-A2D092FB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94A-57DF-45F5-9A99-6188B6F6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0C38-0938-415C-8CF2-6D692379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969-3B19-40DF-BC79-29888EC1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432-8FFD-4FB0-BD26-B48A67DB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9B9A-16AA-4BD1-8EE4-BF52CFD9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146-DBD8-47D7-B47A-D2331293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서울남산체 E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서울남산체 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서울남산체 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6EAC-7910-4436-96BD-EC24C1B7DF9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모서리가 둥근 직사각형 14"/>
          <p:cNvSpPr/>
          <p:nvPr/>
        </p:nvSpPr>
        <p:spPr>
          <a:xfrm>
            <a:off x="1012680" y="2004840"/>
            <a:ext cx="7118640" cy="2848320"/>
          </a:xfrm>
          <a:prstGeom prst="roundRect">
            <a:avLst>
              <a:gd name="adj" fmla="val 16667"/>
            </a:avLst>
          </a:prstGeom>
          <a:noFill/>
          <a:ln cap="rnd" w="76320">
            <a:solidFill>
              <a:srgbClr val="ffffff">
                <a:alpha val="52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모서리가 둥근 직사각형 2" descr=""/>
          <p:cNvPicPr/>
          <p:nvPr/>
        </p:nvPicPr>
        <p:blipFill>
          <a:blip r:embed="rId2"/>
          <a:stretch/>
        </p:blipFill>
        <p:spPr>
          <a:xfrm>
            <a:off x="1249200" y="2200320"/>
            <a:ext cx="6645600" cy="2841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:\[01]업무\경기사이버도서관\디자인\이미지\별.png"/>
          <p:cNvPicPr/>
          <p:nvPr/>
        </p:nvPicPr>
        <p:blipFill>
          <a:blip r:embed="rId3"/>
          <a:stretch/>
        </p:blipFill>
        <p:spPr>
          <a:xfrm>
            <a:off x="434880" y="1743120"/>
            <a:ext cx="2049480" cy="132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D:\[01]업무\경기사이버도서관\디자인\이미지\병아리.png"/>
          <p:cNvPicPr/>
          <p:nvPr/>
        </p:nvPicPr>
        <p:blipFill>
          <a:blip r:embed="rId4"/>
          <a:stretch/>
        </p:blipFill>
        <p:spPr>
          <a:xfrm flipH="1" rot="592800">
            <a:off x="6948000" y="6080040"/>
            <a:ext cx="581040" cy="55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D:\[01]업무\경기사이버도서관\디자인\이미지\병아리.png"/>
          <p:cNvPicPr/>
          <p:nvPr/>
        </p:nvPicPr>
        <p:blipFill>
          <a:blip r:embed="rId5"/>
          <a:stretch/>
        </p:blipFill>
        <p:spPr>
          <a:xfrm>
            <a:off x="7674120" y="6095880"/>
            <a:ext cx="581040" cy="54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D:\[01]업무\경기사이버도서관\디자인\이미지\병아리.png"/>
          <p:cNvPicPr/>
          <p:nvPr/>
        </p:nvPicPr>
        <p:blipFill>
          <a:blip r:embed="rId6"/>
          <a:stretch/>
        </p:blipFill>
        <p:spPr>
          <a:xfrm flipH="1" rot="21134400">
            <a:off x="8397360" y="6066000"/>
            <a:ext cx="58104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네모난 모양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도서관에 관한 다양한 정보를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담고 있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주인에 관한 다양한 정보를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담고 있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잃어버리면 다시 발급 받을 수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있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빌릴 때 꼭 필요한 것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pic>
        <p:nvPicPr>
          <p:cNvPr id="96" name="모서리가 둥근 직사각형 5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도서관에서 꼭 갖추어야 할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물건이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보관하는 역할을 합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여러 가지 물건들을 운반하지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바퀴가 달려 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50760" y="1844280"/>
            <a:ext cx="7653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제시되는 문장을 보면서 유추하여 자신의 모둠의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구호를 외친 후 정답을 맞힌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2.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첫 번째 힌트에서는 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점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두 번째 힌트에서는 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점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세 번째 힌트에서는 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점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네 번째 힌트에서는 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점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마지막 힌트에서는 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점을 획득한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3. </a:t>
            </a:r>
            <a:r>
              <a:rPr b="0" lang="ko-KR" sz="2500" spc="-1" strike="noStrike">
                <a:solidFill>
                  <a:srgbClr val="000000"/>
                </a:solidFill>
                <a:latin typeface="돋움"/>
                <a:ea typeface="돋움"/>
              </a:rPr>
              <a:t>모둠별로 맞힌 정답의 점수를 계산한다</a:t>
            </a:r>
            <a:r>
              <a:rPr b="0" lang="en-US" sz="25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스무고개 진행 요령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533320" y="5084640"/>
            <a:ext cx="43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1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일차 책의 역사</a:t>
            </a: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도서관의 역사</a:t>
            </a: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, 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자료분류</a:t>
            </a: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자료검색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청구기호 익히기</a:t>
            </a: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, 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도서관 예절</a:t>
            </a:r>
            <a:r>
              <a:rPr b="0" lang="en-US" sz="1800" spc="-1" strike="noStrike">
                <a:solidFill>
                  <a:srgbClr val="c00000"/>
                </a:solidFill>
                <a:latin typeface="돋움"/>
                <a:ea typeface="돋움"/>
              </a:rPr>
              <a:t>/</a:t>
            </a:r>
            <a:r>
              <a:rPr b="0" lang="ko-KR" sz="1800" spc="-1" strike="noStrike">
                <a:solidFill>
                  <a:srgbClr val="c00000"/>
                </a:solidFill>
                <a:latin typeface="돋움"/>
                <a:ea typeface="돋움"/>
              </a:rPr>
              <a:t>이용규칙 익히기 학습 후 시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옮기는 수레로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‘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책수레’라고도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모서리가 둥근 직사각형 9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인류의 의사소통과 함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타났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다양한 사람들이 모이는 곳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문제를 해결하는 공간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평생교육기관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수집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정리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보존하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곳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모서리가 둥근 직사각형 9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스무고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도서관의 역사</a:t>
            </a:r>
            <a:r>
              <a:rPr b="0" lang="en-US" sz="5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책의 역사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텔로 도서관을 채우고 있었지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도서관예절</a:t>
            </a:r>
            <a:r>
              <a:rPr b="0" lang="en-US" sz="5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br>
              <a:rPr sz="5000"/>
            </a:b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이용규칙</a:t>
            </a:r>
            <a:r>
              <a:rPr b="0" lang="en-US" sz="5000" spc="-1" strike="noStrike">
                <a:solidFill>
                  <a:srgbClr val="000000"/>
                </a:solidFill>
                <a:latin typeface="돋움"/>
                <a:ea typeface="돋움"/>
              </a:rPr>
              <a:t>/ </a:t>
            </a: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시설</a:t>
            </a:r>
            <a:endParaRPr b="0" lang="en-US" sz="5000" spc="-1" strike="noStrike">
              <a:solidFill>
                <a:srgbClr val="000000"/>
              </a:solidFill>
              <a:latin typeface="서울남산체 E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691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스무고개</a:t>
            </a:r>
            <a:endParaRPr b="0" lang="en-US" sz="4800" spc="-1" strike="noStrike">
              <a:solidFill>
                <a:srgbClr val="000000"/>
              </a:solidFill>
              <a:latin typeface="서울남산체 B"/>
            </a:endParaRPr>
          </a:p>
        </p:txBody>
      </p:sp>
      <p:sp>
        <p:nvSpPr>
          <p:cNvPr id="59" name="직선 연결선 2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갈대 가지를 이용해 쓸 수 있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나방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풀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빗면이라는 뜻을 가지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V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모양으로 만들어져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점토판에 새겨진 글자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" name="모서리가 둥근 직사각형 5" descr=""/>
          <p:cNvPicPr/>
          <p:nvPr/>
        </p:nvPicPr>
        <p:blipFill>
          <a:blip r:embed="rId1"/>
          <a:stretch/>
        </p:blipFill>
        <p:spPr>
          <a:xfrm>
            <a:off x="1523880" y="2322360"/>
            <a:ext cx="58705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이집트에 살아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알렉산드리아 도서관에서 살고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미라의 베개로 사용되기도 하지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지중해 연안의 습지에서 무리 지어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자라는 식물이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영어 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paper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의 어원이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000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년을 살아왔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0" name="모서리가 둥근 직사각형 4" descr=""/>
          <p:cNvPicPr/>
          <p:nvPr/>
        </p:nvPicPr>
        <p:blipFill>
          <a:blip r:embed="rId1"/>
          <a:stretch/>
        </p:blipFill>
        <p:spPr>
          <a:xfrm>
            <a:off x="1523880" y="2322360"/>
            <a:ext cx="58705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고대의 왕립도서관을 대학도서관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연결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코덱스형의 책의 형태를 보급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중세 암흑시대의 도서관이에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필경사들이 있는 도서관이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기독교 교회 안에 만든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종교도서관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이에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모서리가 둥근 직사각형 4" descr=""/>
          <p:cNvPicPr/>
          <p:nvPr/>
        </p:nvPicPr>
        <p:blipFill>
          <a:blip r:embed="rId1"/>
          <a:stretch/>
        </p:blipFill>
        <p:spPr>
          <a:xfrm>
            <a:off x="1011240" y="2425680"/>
            <a:ext cx="73342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후한시대에 살았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궁궐의 물건 관리인이었지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나무껍질로 죽을 만들었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계산기를 발명하기도 했죠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종이를 발명한 사람이지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의 이름을 따서 종이를 “○○지”라고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해요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모서리가 둥근 직사각형 5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스무고개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8580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자료분류</a:t>
            </a:r>
            <a:r>
              <a:rPr b="0" lang="en-US" sz="5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검색</a:t>
            </a:r>
            <a:r>
              <a:rPr b="0" lang="en-US" sz="5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5000" spc="-1" strike="noStrike">
                <a:solidFill>
                  <a:srgbClr val="000000"/>
                </a:solidFill>
                <a:latin typeface="돋움"/>
                <a:ea typeface="돋움"/>
              </a:rPr>
              <a:t>청구기호</a:t>
            </a:r>
            <a:endParaRPr b="0" lang="en-US" sz="5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도서관에서 지켜야 할 원칙입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자료의 이용과 보관을 돕습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자료를 구분하여 정리하는 방법입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숫자와 문자로 이루어집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책의 위치를 알려주는 기호입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6" name="모서리가 둥근 직사각형 4" descr=""/>
          <p:cNvPicPr/>
          <p:nvPr/>
        </p:nvPicPr>
        <p:blipFill>
          <a:blip r:embed="rId1"/>
          <a:stretch/>
        </p:blipFill>
        <p:spPr>
          <a:xfrm>
            <a:off x="1523880" y="2322360"/>
            <a:ext cx="58705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도서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음반과 같은 또 하나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정보원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분류하는 여러 가지 방법 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하나입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0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까지 열 개의 수를 이용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숫자마다 다른 주제를 가지고 있습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학교도서관에서도 사용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한국에서 사용되는 십진분류법입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4" name="모서리가 둥근 직사각형 4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다양한 글자들로 표시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2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형재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용도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특성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위치를 알려줍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3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참고도서나 시청각 자료에 사용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빌려갈 수 없는 자료를 표시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4.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도서관에서 만날 수 있습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나는 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R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참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어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돋움"/>
                <a:ea typeface="돋움"/>
              </a:rPr>
              <a:t>아처럼 표시됩니다</a:t>
            </a:r>
            <a:r>
              <a:rPr b="0" lang="en-US" sz="2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선 연결선 3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모서리가 둥근 직사각형 4" descr=""/>
          <p:cNvPicPr/>
          <p:nvPr/>
        </p:nvPicPr>
        <p:blipFill>
          <a:blip r:embed="rId1"/>
          <a:stretch/>
        </p:blipFill>
        <p:spPr>
          <a:xfrm>
            <a:off x="1523880" y="2322360"/>
            <a:ext cx="58705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5. </a:t>
            </a:r>
            <a:r>
              <a:rPr b="0" lang="ko-KR" sz="3000" spc="-1" strike="noStrike">
                <a:solidFill>
                  <a:srgbClr val="000000"/>
                </a:solidFill>
                <a:latin typeface="돋움"/>
                <a:ea typeface="돋움"/>
              </a:rPr>
              <a:t>나는 책을 다루는 사람입니다</a:t>
            </a:r>
            <a:r>
              <a:rPr b="0" lang="en-US" sz="3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직선 연결선 6"/>
          <p:cNvSpPr/>
          <p:nvPr/>
        </p:nvSpPr>
        <p:spPr>
          <a:xfrm>
            <a:off x="1079640" y="1700280"/>
            <a:ext cx="7164360" cy="0"/>
          </a:xfrm>
          <a:prstGeom prst="line">
            <a:avLst/>
          </a:prstGeom>
          <a:ln w="66600">
            <a:solidFill>
              <a:srgbClr val="fc3e5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258920" y="69228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돋움"/>
                <a:ea typeface="돋움"/>
              </a:rPr>
              <a:t>나는 누구일까요</a:t>
            </a:r>
            <a:r>
              <a:rPr b="0" lang="en-US" sz="4800" spc="-1" strike="noStrike">
                <a:solidFill>
                  <a:srgbClr val="000000"/>
                </a:solidFill>
                <a:latin typeface="돋움"/>
                <a:ea typeface="돋움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976320" y="1989000"/>
            <a:ext cx="77724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" name="모서리가 둥근 직사각형 9" descr=""/>
          <p:cNvPicPr/>
          <p:nvPr/>
        </p:nvPicPr>
        <p:blipFill>
          <a:blip r:embed="rId1"/>
          <a:stretch/>
        </p:blipFill>
        <p:spPr>
          <a:xfrm>
            <a:off x="1908000" y="2322360"/>
            <a:ext cx="51152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08:01:33Z</dcterms:created>
  <dc:creator>user</dc:creator>
  <dc:description/>
  <dc:language>en-US</dc:language>
  <cp:lastModifiedBy>parkteam</cp:lastModifiedBy>
  <dcterms:modified xsi:type="dcterms:W3CDTF">2013-12-11T06:58:06Z</dcterms:modified>
  <cp:revision>44</cp:revision>
  <dc:subject/>
  <dc:title>스피드 퀴즈</dc:title>
</cp:coreProperties>
</file>